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C4A-3ACE-4738-872A-8461D82D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A58-2830-4B70-9DB8-55C9B992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B69-C687-4340-A491-3BACBE8A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844-C495-492F-B205-F3997564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AA34-FE3A-44CE-88F5-B9FC93B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ED3-7E4E-4C46-B80B-0AD47BF5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FFF-5A78-480B-9E5E-5843871F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6C9-C591-41A4-BE5E-0FDD1BBF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44D-EF7C-41C0-A1FE-FEBD38B9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4682-BDDA-4360-A4A7-8B82351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A8F7-3FFF-44D6-8C5D-00C4D65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F84-B1A0-418C-A52A-7BC29F8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4917-604E-4038-B92C-9D95FE8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46EB-0EEA-4541-AEB8-596A879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E6DB-43F5-4E57-8E3D-8FFC47C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DCB0-5A81-442A-AA95-20BBB2C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EBF8-18DB-4A81-B8B7-79BF3E8E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12A-9558-48E9-A06F-CB9E9306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B8D-CC40-4230-A7BB-18BC413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E8E-8CBB-4A99-B83F-7665C4F1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60F-4C0C-46CD-B613-FCF4DDC9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1DD-F418-453E-AE52-C12DAEF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787-6481-4E6A-AA13-FD62CC6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FD8-01B8-4F17-B926-2EDBF718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7C485E-4A2D-4030-8210-94FE9CCA001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851B9C-7FF0-4162-97BE-895E9AC27FF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84360" y="1700280"/>
            <a:ext cx="777384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15 февраля — день вывода войск из Афганистан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395280" y="314280"/>
            <a:ext cx="8353440" cy="5848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68360" y="620640"/>
            <a:ext cx="8280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так, 1988 год позад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 вывода 40-й Армии оставались считанные недел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 мартовского (1990) мятежа - год и два месяц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 падения режима Наджибуллы (апрель 1992 года) - три года и три месяца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24000" y="620640"/>
            <a:ext cx="8496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5 февраля последнее подразделение 40-й Армии и с ним командующий армией генерал-полковник Б. В. Громов покинуло Афганистан, а гражданская война продолжалась. При этом моджахеды перехватили инициативу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7080" cy="613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24000" y="620640"/>
            <a:ext cx="84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вод частей 40-й Армии в январе-феврале продолжался строго по плану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2"/>
          <p:cNvGrpSpPr/>
          <p:nvPr/>
        </p:nvGrpSpPr>
        <p:grpSpPr>
          <a:xfrm>
            <a:off x="1835280" y="2387520"/>
            <a:ext cx="5975280" cy="4135680"/>
            <a:chOff x="1835280" y="2387520"/>
            <a:chExt cx="5975280" cy="413568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>
              <a:off x="1835280" y="2387520"/>
              <a:ext cx="5975280" cy="41356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97" name="Text Box 4"/>
            <p:cNvSpPr/>
            <p:nvPr/>
          </p:nvSpPr>
          <p:spPr>
            <a:xfrm>
              <a:off x="1835280" y="2387520"/>
              <a:ext cx="5975280" cy="41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324000" y="620640"/>
            <a:ext cx="8351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ний бой на Южном Саланге произошел в январе. Этот бой был жестоким. Наши воины предпринимали усилия, чтобы не пострадали от душмаков мирные жители, которые были в этом райо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24000" y="33336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пы мирных жителей провожали с открытыми сердцами наших военнослужащих… И все же бой начался! Не без потер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1116000" y="2205000"/>
            <a:ext cx="6767640" cy="4294080"/>
            <a:chOff x="1116000" y="2205000"/>
            <a:chExt cx="6767640" cy="429408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2205000"/>
              <a:ext cx="6767640" cy="429408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116000" y="2205000"/>
              <a:ext cx="6767640" cy="42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95280" y="504720"/>
            <a:ext cx="8424720" cy="551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95280" y="666720"/>
            <a:ext cx="8353440" cy="5143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 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 Термеза не так уж далеко... А в Термезе наши люди встречали возвращающихся воинов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417080" cy="4613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95280" y="601560"/>
            <a:ext cx="8353440" cy="527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68360" y="609480"/>
            <a:ext cx="8207280" cy="525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468360" y="604800"/>
            <a:ext cx="8280360" cy="531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324000" y="836640"/>
            <a:ext cx="8640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..Солдаты уходили из Афганистана среди цветов, улыбок, отдавая последние почести павшим. Праздничный Хайратонский мост. Цветы, оркестр, кино и телевидение. Усталый генерал Громов на мосту.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0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395280" y="563400"/>
            <a:ext cx="8424720" cy="5396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йна в Афганистане продолжалась девять лет. Общие потери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ветская армия, ведущая активные боевые действия на чужой территории в горах, теряла в среднем по 1668 человек в год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ими войсками было уничтожено до 800 тысяч мятежник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684360" y="341280"/>
            <a:ext cx="7848360" cy="585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53964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 время войны разрушены десятки укрепрайонов, изъято множество единиц оружия, тонны наркотик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95280" y="528480"/>
            <a:ext cx="8353440" cy="576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14640" cy="630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56000" y="765000"/>
            <a:ext cx="460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роями Советского Союза в Афганистане стали 86 человек, 26 из них награждены посмертно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 1987 году в Афганистане начала осуществляться политика национального примир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767040" cy="597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284720" y="620640"/>
            <a:ext cx="4672080" cy="575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324000" y="620640"/>
            <a:ext cx="8640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е штыки и снаряды, пули и ракеты бушующих на планете междоусобиц и распрей прямой наводкой, без промаха бьют по материнским сердцам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60520" cy="619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ся боль войны проходит через матерей, сводя их с ума, окрашивая волосы в белый цвет, искажая их лица гримасой страшного гор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68360" y="1125360"/>
            <a:ext cx="82072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тог любой войны – безутешная материнская скорбь, цвет платка – черный. И главный памятник войны – это памятник Матери, плачущей у гроба своего сына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596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7800" cy="5370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703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50920" y="727200"/>
            <a:ext cx="8642160" cy="502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24000" y="576360"/>
            <a:ext cx="8496000" cy="5322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324000" y="557280"/>
            <a:ext cx="8496000" cy="5362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250920" y="1144440"/>
            <a:ext cx="8642160" cy="4187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68360" y="687240"/>
            <a:ext cx="8207280" cy="538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2:36:59Z</dcterms:created>
  <dc:creator>Мендель Василий</dc:creator>
  <dc:description/>
  <dc:language>en-US</dc:language>
  <cp:lastModifiedBy>Admin</cp:lastModifiedBy>
  <dcterms:modified xsi:type="dcterms:W3CDTF">2014-02-09T09:58:14Z</dcterms:modified>
  <cp:revision>8</cp:revision>
  <dc:subject/>
  <dc:title>15 февраля — день вывода войск из Афганистана.</dc:title>
</cp:coreProperties>
</file>